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A85E-3E6B-46E9-8E4C-FB5508A4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1C27-FDB9-49BD-8D1D-59F1B9032E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051F-742F-4B26-A38B-28123B357D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AB32-0436-4AB1-AA1B-25F06AE06A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0D75-0A1D-4D0D-A870-3B653C3890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9EF-7414-479B-8277-1118B387B2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CF6C-907B-4770-A7AE-6E4D0D815B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4760-C0C1-422E-AF57-F66B470F1A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EE2E-ECA2-4659-87DB-F4595A4EBC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5C11-E66C-4D0A-AE24-F71DCE8FFA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56BC-D967-450A-84EF-23C5C38F29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3A84-3EEE-415B-BF18-6D9BDAB376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75E9-C1B1-4C2F-9B11-D360A6371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5621-18B4-43AD-B312-746793D49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0918-7B89-4B72-9B7E-AD9936396B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71B0-B807-447E-99F4-C5D229649E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1A01-F1AC-45E4-8B67-C7194BCD9E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57D8-8AEC-43C6-A037-99304233F5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9371-5FA7-42DA-9369-11321ABD1B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E1EA-B8B5-4143-9BB2-402A887DBC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2BA-0A1B-4980-948D-BBC71D87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A94-113B-411E-B169-472E78A8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CD9-27C9-4FDE-B596-54A97512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986-7C8A-4D0B-AF3E-137F9485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385-AF7C-455F-931B-560F6D18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55F-572E-46F2-B508-A373CBB8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C06-EC4C-42EF-B67F-C0D2B913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246-4AB0-43E7-9F0B-03E96DC9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CBB-FC1B-487E-A3D7-B1CE69AE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592-7B1D-469D-AEAE-B9B3DCE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394-D024-40FD-B187-75CD72B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839-1E0F-4D14-91AB-0269BDCC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CADE-56C7-4F2B-AE19-8AB9992E6A5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eTXinehtGw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ightyblogs.com/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cagle.msnbc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oliticalcartoons.com/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Semibold"/>
              </a:rPr>
              <a:t>Selecting a President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untitled"/>
          <p:cNvPicPr/>
          <p:nvPr/>
        </p:nvPicPr>
        <p:blipFill>
          <a:blip r:embed="rId1"/>
          <a:stretch/>
        </p:blipFill>
        <p:spPr>
          <a:xfrm>
            <a:off x="1523880" y="1143000"/>
            <a:ext cx="6248520" cy="4870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828800" y="52574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Nominat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Democratic Party Rules: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wo Types of Delegat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2" name="Picture 16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150920" cy="91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762120" y="5867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Osaka"/>
              </a:rPr>
              <a:t>Pledged Delegate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Osaka"/>
              </a:rPr>
              <a:t>v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Osaka"/>
              </a:rPr>
              <a:t>Superdeleg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0" descr="untitled"/>
          <p:cNvPicPr/>
          <p:nvPr/>
        </p:nvPicPr>
        <p:blipFill>
          <a:blip r:embed="rId2"/>
          <a:stretch/>
        </p:blipFill>
        <p:spPr>
          <a:xfrm>
            <a:off x="7696080" y="533520"/>
            <a:ext cx="990720" cy="99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5" name="Picture 21" descr="untitled"/>
          <p:cNvPicPr/>
          <p:nvPr/>
        </p:nvPicPr>
        <p:blipFill>
          <a:blip r:embed="rId3"/>
          <a:stretch/>
        </p:blipFill>
        <p:spPr>
          <a:xfrm>
            <a:off x="1676520" y="1752480"/>
            <a:ext cx="5678280" cy="401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untitled"/>
          <p:cNvPicPr/>
          <p:nvPr/>
        </p:nvPicPr>
        <p:blipFill>
          <a:blip r:embed="rId1"/>
          <a:stretch/>
        </p:blipFill>
        <p:spPr>
          <a:xfrm>
            <a:off x="3962520" y="1295280"/>
            <a:ext cx="4997160" cy="3822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ledged Delegat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886200" y="5029200"/>
            <a:ext cx="5105520" cy="30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ledged delegates count during the 2008 Democratic prima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69000" indent="-369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ach state allotted  certain number of                                                         delegates who vote at                                                              the par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con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000" indent="-369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ledged delegates are                                                       chosen at state &amp;  loc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000" indent="-369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ledged delegates are                                                    required to cast a vote                                                               at the convention                                                                 based on the results                                                                   of the primary or caucus in their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embers of 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mocratic Party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stablishment who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rve as unpledged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legates at 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arty convention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clude members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of Congress,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governors, and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embers of 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D.N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y are free to vote for any candidate at the co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2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Superdelegat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Picture 15" descr="untitled"/>
          <p:cNvPicPr/>
          <p:nvPr/>
        </p:nvPicPr>
        <p:blipFill>
          <a:blip r:embed="rId1"/>
          <a:stretch/>
        </p:blipFill>
        <p:spPr>
          <a:xfrm>
            <a:off x="4191120" y="1828800"/>
            <a:ext cx="4680000" cy="379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Convention Speeches: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The Keynote Addres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peech given at the convention that embodies that par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core mess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029200" y="42670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Democrat Zell Miller delivers the         2004 RNC  Keynote Add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38080" y="42670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Senator Barrack Obama gives the        2004 DNC  Keynote Add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2" descr="untitled"/>
          <p:cNvPicPr/>
          <p:nvPr/>
        </p:nvPicPr>
        <p:blipFill>
          <a:blip r:embed="rId1"/>
          <a:stretch/>
        </p:blipFill>
        <p:spPr>
          <a:xfrm>
            <a:off x="685800" y="1523880"/>
            <a:ext cx="3746520" cy="275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untitled"/>
          <p:cNvPicPr/>
          <p:nvPr/>
        </p:nvPicPr>
        <p:blipFill>
          <a:blip r:embed="rId2"/>
          <a:stretch/>
        </p:blipFill>
        <p:spPr>
          <a:xfrm>
            <a:off x="4952880" y="1600200"/>
            <a:ext cx="3594240" cy="271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Convention Speeches: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The Acceptance Addres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48765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peech given at the final day of the convention in which the winning candidate formally accepts the par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nomination for presid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Acceptance Address is always televised by the majo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12649320" y="3809880"/>
            <a:ext cx="4724280" cy="3568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1066680" y="43434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1960 presidential candidates John F. Kennedy and Richard M. Nixon deliver their Acceptance Addresses at their party’s national conven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5" descr="untitled"/>
          <p:cNvPicPr/>
          <p:nvPr/>
        </p:nvPicPr>
        <p:blipFill>
          <a:blip r:embed="rId2"/>
          <a:stretch/>
        </p:blipFill>
        <p:spPr>
          <a:xfrm>
            <a:off x="990720" y="1523880"/>
            <a:ext cx="7138800" cy="278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untitled"/>
          <p:cNvPicPr/>
          <p:nvPr/>
        </p:nvPicPr>
        <p:blipFill>
          <a:blip r:embed="rId1"/>
          <a:stretch/>
        </p:blipFill>
        <p:spPr>
          <a:xfrm>
            <a:off x="1371600" y="380880"/>
            <a:ext cx="6453360" cy="4330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47242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Georgia"/>
              </a:rPr>
              <a:t>Critics say that party nominating conventions have become no more than infomercials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362320" y="4343400"/>
            <a:ext cx="4495680" cy="2764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92 Democratic National Convention in New York C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692800" y="586728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eorgia"/>
                <a:ea typeface="Osaka"/>
              </a:rPr>
              <a:t>What do you thi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n’t Stop…the Campaign So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Bill Clinton 1992 National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for discus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lyrics, identify possible ways Clinton is trying to connect to the vo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emographic groups is the Clinton campaign trying to appeal to with this so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ampaign song would you choose for Obama/McCain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191120" y="6248520"/>
            <a:ext cx="4114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Times New Roman"/>
                <a:hlinkClick r:id="rId1"/>
              </a:rPr>
              <a:t>http://www.rightyblog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1920 Republican Conven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281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oday candidates secure their party’s nomination during the pri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ut in 1920 there was no clear nominee going into the Republican Con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5" descr="untitled"/>
          <p:cNvPicPr/>
          <p:nvPr/>
        </p:nvPicPr>
        <p:blipFill>
          <a:blip r:embed="rId2"/>
          <a:stretch/>
        </p:blipFill>
        <p:spPr>
          <a:xfrm>
            <a:off x="2971800" y="1143000"/>
            <a:ext cx="5894280" cy="506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47920" y="6095880"/>
            <a:ext cx="6400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 Patrick Chappatte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he International Herald Tribun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  09/21/2004             http://www.politicalcartoons.com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chwarzenegger Rocks Republican Convention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3" name="Picture 11" descr="untitled"/>
          <p:cNvPicPr/>
          <p:nvPr/>
        </p:nvPicPr>
        <p:blipFill>
          <a:blip r:embed="rId1"/>
          <a:stretch/>
        </p:blipFill>
        <p:spPr>
          <a:xfrm>
            <a:off x="1166760" y="804960"/>
            <a:ext cx="6808680" cy="52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untitled"/>
          <p:cNvPicPr/>
          <p:nvPr/>
        </p:nvPicPr>
        <p:blipFill>
          <a:blip r:embed="rId1"/>
          <a:stretch/>
        </p:blipFill>
        <p:spPr>
          <a:xfrm>
            <a:off x="304920" y="228600"/>
            <a:ext cx="8548560" cy="6415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073160" y="6291360"/>
            <a:ext cx="7227720" cy="30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y Paresh Nath,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National Heral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, New Delhi, India 3/17/08 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hlinkClick r:id="rId2"/>
              </a:rPr>
              <a:t>http://cagle.msnb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08 -- The Final Thre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untitled"/>
          <p:cNvPicPr/>
          <p:nvPr/>
        </p:nvPicPr>
        <p:blipFill>
          <a:blip r:embed="rId1"/>
          <a:stretch/>
        </p:blipFill>
        <p:spPr>
          <a:xfrm>
            <a:off x="914400" y="457200"/>
            <a:ext cx="71010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243792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1:  Caucuses &amp; Primaries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he Battle for the Party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2:  Nominating Conventions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“Glorified Infomercials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3:  General Election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he Fight for th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4:  Electoral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Power to the Peo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Copperplate Gothic Bold"/>
              </a:rPr>
              <a:t>Presidential Sele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4952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perdelegat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 rot="46200">
            <a:off x="2209680" y="1142640"/>
            <a:ext cx="3649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762120" y="6553080"/>
            <a:ext cx="7543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 John Trever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he Albuquerque Journ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03/30/2008  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hlinkClick r:id="rId1"/>
              </a:rPr>
              <a:t>http://www.politicalcartoons.com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untitled"/>
          <p:cNvPicPr/>
          <p:nvPr/>
        </p:nvPicPr>
        <p:blipFill>
          <a:blip r:embed="rId2"/>
          <a:stretch/>
        </p:blipFill>
        <p:spPr>
          <a:xfrm>
            <a:off x="533520" y="762120"/>
            <a:ext cx="8015040" cy="580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Presidential Nominating Convention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he Nuts &amp; Bol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8" name="Group 17"/>
          <p:cNvGrpSpPr/>
          <p:nvPr/>
        </p:nvGrpSpPr>
        <p:grpSpPr>
          <a:xfrm>
            <a:off x="685800" y="1447920"/>
            <a:ext cx="7723080" cy="5157720"/>
            <a:chOff x="685800" y="1447920"/>
            <a:chExt cx="7723080" cy="5157720"/>
          </a:xfrm>
        </p:grpSpPr>
        <p:pic>
          <p:nvPicPr>
            <p:cNvPr id="59" name="Picture 16" descr="untitled"/>
            <p:cNvPicPr/>
            <p:nvPr/>
          </p:nvPicPr>
          <p:blipFill>
            <a:blip r:embed="rId1"/>
            <a:stretch/>
          </p:blipFill>
          <p:spPr>
            <a:xfrm>
              <a:off x="685800" y="1447920"/>
              <a:ext cx="7723080" cy="51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761760" y="6172200"/>
              <a:ext cx="7620120" cy="368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arack and Michelle Obama at the 2004 Democratic National Conven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1" name="Picture 18" descr="untitled"/>
          <p:cNvPicPr/>
          <p:nvPr/>
        </p:nvPicPr>
        <p:blipFill>
          <a:blip r:embed="rId2"/>
          <a:stretch/>
        </p:blipFill>
        <p:spPr>
          <a:xfrm>
            <a:off x="7010280" y="685800"/>
            <a:ext cx="596880" cy="6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untitled"/>
          <p:cNvPicPr/>
          <p:nvPr/>
        </p:nvPicPr>
        <p:blipFill>
          <a:blip r:embed="rId3"/>
          <a:stretch/>
        </p:blipFill>
        <p:spPr>
          <a:xfrm>
            <a:off x="1905120" y="762120"/>
            <a:ext cx="583920" cy="58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7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Nominating Conven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962520" cy="5334120"/>
          </a:xfrm>
          <a:prstGeom prst="rect">
            <a:avLst/>
          </a:prstGeom>
          <a:solidFill>
            <a:srgbClr val="ffe701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n assembly held by political parties every four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sually held in late summer before the general election in Nov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he Democratic and Republican parties hold nominating conventions as do third parties [ex:  Green Party, Libertarian Party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1045"/>
          <p:cNvGrpSpPr/>
          <p:nvPr/>
        </p:nvGrpSpPr>
        <p:grpSpPr>
          <a:xfrm>
            <a:off x="4800600" y="1066680"/>
            <a:ext cx="4064040" cy="5457960"/>
            <a:chOff x="4800600" y="1066680"/>
            <a:chExt cx="4064040" cy="5457960"/>
          </a:xfrm>
        </p:grpSpPr>
        <p:pic>
          <p:nvPicPr>
            <p:cNvPr id="67" name="Picture 1044" descr="untitled"/>
            <p:cNvPicPr/>
            <p:nvPr/>
          </p:nvPicPr>
          <p:blipFill>
            <a:blip r:embed="rId1"/>
            <a:stretch/>
          </p:blipFill>
          <p:spPr>
            <a:xfrm>
              <a:off x="4800600" y="1066680"/>
              <a:ext cx="4064040" cy="536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30"/>
            <p:cNvSpPr/>
            <p:nvPr/>
          </p:nvSpPr>
          <p:spPr>
            <a:xfrm>
              <a:off x="5257800" y="5791320"/>
              <a:ext cx="3200400" cy="7333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George W. and Laura Bush at the                                          2000 Republican Conv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1" descr="untitled"/>
          <p:cNvPicPr/>
          <p:nvPr/>
        </p:nvPicPr>
        <p:blipFill>
          <a:blip r:embed="rId1"/>
          <a:stretch/>
        </p:blipFill>
        <p:spPr>
          <a:xfrm>
            <a:off x="1600200" y="1066680"/>
            <a:ext cx="5818320" cy="3988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Purposes of Nominating Conventio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057400" y="46483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1980 Republican National Convention in Detroit, Michi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5181480"/>
            <a:ext cx="75438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t the convention adopt a party plat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to the convention elect that party’s nominees for President and Vice-presi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026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What’s a Party Platform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343400" cy="449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Party Platform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tatement of principles and objectives a political party and a candidate supports in order to win the general e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Plank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ividual topics in a pa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 platform (ex:  abortion, war in Ir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436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5257800" y="5943600"/>
            <a:ext cx="3048120" cy="52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artoon satirizing the 1896 Democratic Party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032" descr="untitled"/>
          <p:cNvPicPr/>
          <p:nvPr/>
        </p:nvPicPr>
        <p:blipFill>
          <a:blip r:embed="rId1"/>
          <a:stretch/>
        </p:blipFill>
        <p:spPr>
          <a:xfrm>
            <a:off x="5181480" y="1143000"/>
            <a:ext cx="317520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026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2004 Platform The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657600" cy="3733920"/>
          </a:xfrm>
          <a:prstGeom prst="rect">
            <a:avLst/>
          </a:prstGeom>
          <a:solidFill>
            <a:srgbClr val="6699ff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emocratic Party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Strong at Home, Respected in the Worl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0240" y="1828800"/>
            <a:ext cx="3809880" cy="373392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publican Par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Georgia"/>
              </a:rPr>
              <a:t>A Safer World and a More Hopeful America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38"/>
          <p:cNvSpPr/>
          <p:nvPr/>
        </p:nvSpPr>
        <p:spPr>
          <a:xfrm>
            <a:off x="609480" y="5791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How are these themes simil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39"/>
          <p:cNvSpPr/>
          <p:nvPr/>
        </p:nvSpPr>
        <p:spPr>
          <a:xfrm>
            <a:off x="5867280" y="5791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Differ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040" descr="untitled"/>
          <p:cNvPicPr/>
          <p:nvPr/>
        </p:nvPicPr>
        <p:blipFill>
          <a:blip r:embed="rId1"/>
          <a:stretch/>
        </p:blipFill>
        <p:spPr>
          <a:xfrm>
            <a:off x="609480" y="431640"/>
            <a:ext cx="990720" cy="99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6" name="Picture 1041" descr="untitled"/>
          <p:cNvPicPr/>
          <p:nvPr/>
        </p:nvPicPr>
        <p:blipFill>
          <a:blip r:embed="rId2"/>
          <a:stretch/>
        </p:blipFill>
        <p:spPr>
          <a:xfrm>
            <a:off x="7696080" y="457200"/>
            <a:ext cx="1003320" cy="1041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7" name="Picture 1043" descr="untitled"/>
          <p:cNvPicPr/>
          <p:nvPr/>
        </p:nvPicPr>
        <p:blipFill>
          <a:blip r:embed="rId3"/>
          <a:stretch/>
        </p:blipFill>
        <p:spPr>
          <a:xfrm>
            <a:off x="1371600" y="3809880"/>
            <a:ext cx="2082960" cy="1650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44" descr="untitled"/>
          <p:cNvPicPr/>
          <p:nvPr/>
        </p:nvPicPr>
        <p:blipFill>
          <a:blip r:embed="rId4"/>
          <a:stretch/>
        </p:blipFill>
        <p:spPr>
          <a:xfrm>
            <a:off x="5334120" y="3733920"/>
            <a:ext cx="2692440" cy="168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Who are 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Delegates</a:t>
            </a: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5181480"/>
            <a:ext cx="8077320" cy="106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Delegat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voting representative to the party nominating co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1" descr="untitled"/>
          <p:cNvPicPr/>
          <p:nvPr/>
        </p:nvPicPr>
        <p:blipFill>
          <a:blip r:embed="rId1"/>
          <a:stretch/>
        </p:blipFill>
        <p:spPr>
          <a:xfrm>
            <a:off x="1905120" y="1295280"/>
            <a:ext cx="2298600" cy="341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untitled"/>
          <p:cNvPicPr/>
          <p:nvPr/>
        </p:nvPicPr>
        <p:blipFill>
          <a:blip r:embed="rId2"/>
          <a:stretch/>
        </p:blipFill>
        <p:spPr>
          <a:xfrm>
            <a:off x="5105520" y="1295280"/>
            <a:ext cx="237492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Delegate Sele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114800" cy="38862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Proportion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rimary system used by the </a:t>
            </a:r>
            <a:r>
              <a:rPr b="1" lang="en-US" sz="2400" spc="-1" strike="noStrike">
                <a:solidFill>
                  <a:srgbClr val="cc0000"/>
                </a:solidFill>
                <a:latin typeface="Georgia"/>
              </a:rPr>
              <a:t>Democratic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andidates are allocated the same percentage of a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delegates as they received in popular v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00240" y="1828440"/>
            <a:ext cx="3962520" cy="388620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inner-take-al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ystem used in most 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</a:rPr>
              <a:t>Republican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pri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winner of the popular vote in that state receives all that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deleg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45548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1371600" cy="10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4:03:33Z</dcterms:created>
  <dc:creator>Julie Strong</dc:creator>
  <dc:description/>
  <dc:language>en-US</dc:language>
  <cp:lastModifiedBy>hberndt</cp:lastModifiedBy>
  <dcterms:modified xsi:type="dcterms:W3CDTF">2009-11-12T20:13:33Z</dcterms:modified>
  <cp:revision>92</cp:revision>
  <dc:subject/>
  <dc:title>PowerPoint Presentation</dc:title>
</cp:coreProperties>
</file>